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48F9-C3EC-4AC6-8F9C-B3EC16CAD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39C0-B57A-4295-A9BD-052FA7CF8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3269-D54E-4AF2-948D-3DF61B3F5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F454-087B-421D-A6F0-6C1C9B7E6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11E31-9EBC-4F36-8DAC-6D930133A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A4C46-94F5-420B-8D17-EEFDF3638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1FA91-25A2-4DDE-AA58-7F9133377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2ED70-6AEA-46EC-A97C-9ABEDBE6F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A49EF-566F-487F-87F7-617C51C16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B4703-247E-4AF4-BC37-6F9D6253E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02D5C-335D-42A0-8FAB-0B4ECD16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F9D7-8ECD-4960-A6BD-27A61059F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14014-0287-4A96-A265-E5EC4E28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22616-4B22-40C7-8B97-AFEFFEFD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22219-5C70-408D-9415-D787E0067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E5A75-F1F8-4FDB-9BE4-50BB11842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B7929-0C16-4A34-8F26-46592F5D8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A186-2050-4031-9B55-F6206DA25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23FE-0A7C-4BE8-BB24-204562962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C438-E669-408C-BF14-8782F84E7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7D9B-671A-4EA2-8EB9-6BD89C09C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11F7-B753-4326-AA7C-A721B2AB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D09A-2109-4334-9ABF-6CFA0F17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0288-BA27-48A9-A969-9A3E4214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D99FAC-769E-4693-B3ED-CF3B60CB140C}" type="datetime">
              <a:rPr b="0" lang="fr-BE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E41B7E-AEB0-40CC-874D-6C36443ED1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6"/>
          <p:cNvSpPr/>
          <p:nvPr/>
        </p:nvSpPr>
        <p:spPr>
          <a:xfrm>
            <a:off x="502200" y="258840"/>
            <a:ext cx="1497600" cy="1409400"/>
          </a:xfrm>
          <a:prstGeom prst="rect">
            <a:avLst/>
          </a:prstGeom>
          <a:solidFill>
            <a:srgbClr val="fac090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0" bIns="1404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Verdana"/>
                <a:ea typeface="Verdana"/>
              </a:rPr>
              <a:t>Comestib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Verdana"/>
                <a:ea typeface="Verdana"/>
              </a:rPr>
              <a:t>Toxiq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Verdana"/>
                <a:ea typeface="Verdana"/>
              </a:rPr>
              <a:t>Morte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oneTexte 7"/>
          <p:cNvSpPr/>
          <p:nvPr/>
        </p:nvSpPr>
        <p:spPr>
          <a:xfrm>
            <a:off x="4280040" y="1824120"/>
            <a:ext cx="159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Verdana"/>
              </a:rPr>
              <a:t>Nom lat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173549-F2A1-4006-811A-818E0DF8DD5B}" type="datetime">
              <a:rPr b="0" lang="fr-BE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BCE5B7-6B91-4857-ABE7-E834C9C61F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S CHAMPIGNONS DE NOS BOI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0" y="45360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Helevelle lacuneu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Espace réservé du contenu 7" descr="helveLacuneuse.jpg"/>
          <p:cNvPicPr/>
          <p:nvPr/>
        </p:nvPicPr>
        <p:blipFill>
          <a:blip r:embed="rId1"/>
          <a:srcRect l="0" t="-1894" r="0" b="-1894"/>
          <a:stretch/>
        </p:blipFill>
        <p:spPr>
          <a:xfrm>
            <a:off x="457200" y="1824120"/>
            <a:ext cx="3490920" cy="42098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276440" y="2347920"/>
            <a:ext cx="4552920" cy="12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0" y="45360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ygrophore coniq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Espace réservé du contenu 7" descr="hygrophoreConique.jpg"/>
          <p:cNvPicPr/>
          <p:nvPr/>
        </p:nvPicPr>
        <p:blipFill>
          <a:blip r:embed="rId1"/>
          <a:srcRect l="0" t="-12206" r="0" b="-12206"/>
          <a:stretch/>
        </p:blipFill>
        <p:spPr>
          <a:xfrm>
            <a:off x="457200" y="1824120"/>
            <a:ext cx="3490920" cy="42098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276440" y="2347920"/>
            <a:ext cx="4552920" cy="12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0" y="45360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épiote brun incarn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56840" y="1824120"/>
            <a:ext cx="3490920" cy="4209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276440" y="2347920"/>
            <a:ext cx="4552920" cy="12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0" y="45360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axille enroul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Espace réservé du contenu 7" descr="paxilleEnroule.jpg"/>
          <p:cNvPicPr/>
          <p:nvPr/>
        </p:nvPicPr>
        <p:blipFill>
          <a:blip r:embed="rId1"/>
          <a:srcRect l="0" t="-52878" r="0" b="-52878"/>
          <a:stretch/>
        </p:blipFill>
        <p:spPr>
          <a:xfrm>
            <a:off x="457200" y="1824120"/>
            <a:ext cx="3490920" cy="42098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276440" y="2347920"/>
            <a:ext cx="4552920" cy="12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0" y="45360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ied ble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Espace réservé du contenu 7" descr="piedBleu.jpg"/>
          <p:cNvPicPr/>
          <p:nvPr/>
        </p:nvPicPr>
        <p:blipFill>
          <a:blip r:embed="rId1"/>
          <a:srcRect l="0" t="-26271" r="0" b="-26271"/>
          <a:stretch/>
        </p:blipFill>
        <p:spPr>
          <a:xfrm>
            <a:off x="457200" y="1824120"/>
            <a:ext cx="3490920" cy="42098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276440" y="2347920"/>
            <a:ext cx="4552920" cy="12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0" y="45360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ussule émétiq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56840" y="1824120"/>
            <a:ext cx="3490920" cy="4209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276440" y="2347920"/>
            <a:ext cx="4552920" cy="12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0" y="45360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ompette des m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6840" y="1824120"/>
            <a:ext cx="3490920" cy="42098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276440" y="2347920"/>
            <a:ext cx="4552920" cy="12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0" y="45360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manite phalloïd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Espace réservé du contenu 7" descr="amanitePhalloide.JPG"/>
          <p:cNvPicPr/>
          <p:nvPr/>
        </p:nvPicPr>
        <p:blipFill>
          <a:blip r:embed="rId2"/>
          <a:srcRect l="0" t="159" r="0" b="159"/>
          <a:stretch/>
        </p:blipFill>
        <p:spPr>
          <a:xfrm>
            <a:off x="457200" y="1824120"/>
            <a:ext cx="3490920" cy="42098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276440" y="2347920"/>
            <a:ext cx="4552920" cy="12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0" y="45360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manite tue mouch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6840" y="1824120"/>
            <a:ext cx="3490920" cy="42098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276440" y="2347920"/>
            <a:ext cx="4552920" cy="12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0" y="45360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let de Sat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Espace réservé du contenu 7" descr="boletSatan.jpg"/>
          <p:cNvPicPr/>
          <p:nvPr/>
        </p:nvPicPr>
        <p:blipFill>
          <a:blip r:embed="rId1"/>
          <a:srcRect l="0" t="-36717" r="0" b="-36717"/>
          <a:stretch/>
        </p:blipFill>
        <p:spPr>
          <a:xfrm>
            <a:off x="457200" y="1824120"/>
            <a:ext cx="3490920" cy="42098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276440" y="2347920"/>
            <a:ext cx="4552920" cy="12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0" y="45360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èpe de Bordeau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6840" y="1824120"/>
            <a:ext cx="3490920" cy="42098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276440" y="2347920"/>
            <a:ext cx="4552920" cy="12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0" y="45360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prin chevel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Espace réservé du contenu 7" descr="coprinChevelu.jpg"/>
          <p:cNvPicPr/>
          <p:nvPr/>
        </p:nvPicPr>
        <p:blipFill>
          <a:blip r:embed="rId1"/>
          <a:srcRect l="0" t="4775" r="0" b="4775"/>
          <a:stretch/>
        </p:blipFill>
        <p:spPr>
          <a:xfrm>
            <a:off x="457200" y="1824120"/>
            <a:ext cx="3490920" cy="4209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276440" y="2347920"/>
            <a:ext cx="4552920" cy="123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"/>
          <p:cNvGraphicFramePr/>
          <p:nvPr/>
        </p:nvGraphicFramePr>
        <p:xfrm>
          <a:off x="4276800" y="5662440"/>
          <a:ext cx="4552920" cy="371520"/>
        </p:xfrm>
        <a:graphic>
          <a:graphicData uri="http://schemas.openxmlformats.org/drawingml/2006/table">
            <a:tbl>
              <a:tblPr/>
              <a:tblGrid>
                <a:gridCol w="379440"/>
                <a:gridCol w="379440"/>
                <a:gridCol w="379440"/>
                <a:gridCol w="379080"/>
                <a:gridCol w="379440"/>
                <a:gridCol w="379440"/>
                <a:gridCol w="379440"/>
                <a:gridCol w="379440"/>
                <a:gridCol w="379440"/>
                <a:gridCol w="379440"/>
                <a:gridCol w="379440"/>
                <a:gridCol w="3794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0" y="45360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rtinaire couleur de roc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Espace réservé du contenu 7" descr="cortinaireRocou.jpg"/>
          <p:cNvPicPr/>
          <p:nvPr/>
        </p:nvPicPr>
        <p:blipFill>
          <a:blip r:embed="rId1"/>
          <a:srcRect l="0" t="-33643" r="0" b="-33643"/>
          <a:stretch/>
        </p:blipFill>
        <p:spPr>
          <a:xfrm>
            <a:off x="457200" y="1824120"/>
            <a:ext cx="3490920" cy="4209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276440" y="2347920"/>
            <a:ext cx="4552920" cy="12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0" y="45360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rosophile lacrymai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6840" y="1824120"/>
            <a:ext cx="3490920" cy="42098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276440" y="2347920"/>
            <a:ext cx="4552920" cy="12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0" y="45360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irol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Espace réservé du contenu 7" descr="girolle.jpg"/>
          <p:cNvPicPr/>
          <p:nvPr/>
        </p:nvPicPr>
        <p:blipFill>
          <a:blip r:embed="rId1"/>
          <a:srcRect l="0" t="-968" r="0" b="-968"/>
          <a:stretch/>
        </p:blipFill>
        <p:spPr>
          <a:xfrm>
            <a:off x="457200" y="1824120"/>
            <a:ext cx="3490920" cy="42098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276440" y="2347920"/>
            <a:ext cx="4552920" cy="12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14:16:47Z</dcterms:created>
  <dc:creator>Étienne Vandeput</dc:creator>
  <dc:description/>
  <dc:language>en-US</dc:language>
  <cp:lastModifiedBy>julie Henry</cp:lastModifiedBy>
  <dcterms:modified xsi:type="dcterms:W3CDTF">2011-04-14T12:53:05Z</dcterms:modified>
  <cp:revision>15</cp:revision>
  <dc:subject/>
  <dc:title>Présentation PowerPoint</dc:title>
</cp:coreProperties>
</file>